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06B6-6EFA-4DCC-8B0D-D0380D0E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439B-D196-469C-8EED-F5553645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23AB-A4C3-4126-A505-0E11720BE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99A7-79EF-4B96-B892-4A974D550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39D0-AB9D-4E9F-8A55-561018FAF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7077-3E43-448E-BD58-611B08C0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F527-76B7-41ED-B5F6-FB6AAECF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6C70-55B6-4222-932D-7E649625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B232-5D6F-4273-B95F-A5046BD1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5851-EF1F-4891-A27F-441F900E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D301-3125-47BC-854C-99B955D5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9394-81BD-4734-BCB1-BDD77DE1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92BB-09C6-478C-8273-A71A95E0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BEDD-052D-483D-A50F-4CE32D8D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C032-5BE2-45A3-82FA-C28DC394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9910-F236-4412-9BD7-844A69292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A541-5D88-486C-A778-4632AD14B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FD82-2AFC-47FD-AF65-4DE14C85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0298-0E2A-4D2E-ACA3-48CB714E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8A6D-255F-4F8C-8D5D-BA1318DF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904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8ED3-CCF0-48DB-9CFB-9D1834C4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CFCC-EC2B-4802-A0E5-B2AE3B0D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C688-59F3-440E-9958-654BEF31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1864-091F-47DA-9A82-DCCB400A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ac4a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85b3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5b34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85b3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5b34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85b3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5b34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85b3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5b34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85b3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5b34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85b3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5b34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85b3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5b34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5b3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5b34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5b3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5b34d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5b3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3C22-1122-4981-8CF0-0526A9E9BBA3}" type="slidenum">
              <a:rPr b="0" lang="en-US" sz="1000" spc="-1" strike="noStrike">
                <a:solidFill>
                  <a:srgbClr val="85b34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90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ac4a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5b3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5b34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5b3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5b34d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5b3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35E3-3396-44E8-8772-0D2853BB8532}" type="slidenum">
              <a:rPr b="0" lang="en-US" sz="1000" spc="-1" strike="noStrike">
                <a:solidFill>
                  <a:srgbClr val="85b34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5b34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b3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b34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5b34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5b3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5b34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5b34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34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5b34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5b34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34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5b34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5b3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34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5b34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5b3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34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5b3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90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ac4a0"/>
                </a:solidFill>
                <a:latin typeface="Arial Black"/>
              </a:rPr>
              <a:t>Species</a:t>
            </a: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5b34d"/>
                </a:solidFill>
                <a:latin typeface="Arial"/>
              </a:rPr>
              <a:t>Adapted to their environment</a:t>
            </a: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ac4a0"/>
                </a:solidFill>
                <a:latin typeface="Arial Black"/>
              </a:rPr>
              <a:t>Species</a:t>
            </a: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b3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5b34d"/>
                </a:solidFill>
                <a:latin typeface="Arial"/>
              </a:rPr>
              <a:t>Each distinct kind of living thing is called a </a:t>
            </a:r>
            <a:r>
              <a:rPr b="1" lang="en-US" sz="3200" spc="-1" strike="noStrike" u="sng">
                <a:solidFill>
                  <a:srgbClr val="85b34d"/>
                </a:solidFill>
                <a:uFillTx/>
                <a:latin typeface="Arial"/>
              </a:rPr>
              <a:t>species</a:t>
            </a:r>
            <a:r>
              <a:rPr b="0" lang="en-US" sz="3200" spc="-1" strike="noStrike">
                <a:solidFill>
                  <a:srgbClr val="85b34d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5b3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5b34d"/>
                </a:solidFill>
                <a:latin typeface="Arial"/>
              </a:rPr>
              <a:t>A species is a group of living things that can breed together and produce offspring which can also breed together.</a:t>
            </a: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371600" y="5029200"/>
            <a:ext cx="1447920" cy="144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971800" y="5791320"/>
            <a:ext cx="685800" cy="682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733920" y="5715000"/>
            <a:ext cx="761760" cy="757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4648320" y="5867280"/>
            <a:ext cx="685800" cy="6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90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ac4a0"/>
                </a:solidFill>
                <a:latin typeface="Arial Black"/>
              </a:rPr>
              <a:t>Environment</a:t>
            </a: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b3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5b34d"/>
                </a:solidFill>
                <a:latin typeface="Arial"/>
              </a:rPr>
              <a:t>Every species on Earth is adapted to live in its particular environment.</a:t>
            </a: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5b3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5b34d"/>
                </a:solidFill>
                <a:latin typeface="Arial"/>
              </a:rPr>
              <a:t>Species have certain structures, skills, and abilities that enable them to survive.</a:t>
            </a: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ac4a0"/>
                </a:solidFill>
                <a:latin typeface="Arial Black"/>
              </a:rPr>
              <a:t>Adaptations</a:t>
            </a: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85b3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5b34d"/>
                </a:solidFill>
                <a:latin typeface="Arial"/>
              </a:rPr>
              <a:t>Structure</a:t>
            </a: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85b3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5b34d"/>
                </a:solidFill>
                <a:latin typeface="Arial"/>
              </a:rPr>
              <a:t>Skill</a:t>
            </a: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85b3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5b34d"/>
                </a:solidFill>
                <a:latin typeface="Arial"/>
              </a:rPr>
              <a:t>Ability</a:t>
            </a:r>
            <a:endParaRPr b="0" lang="en-US" sz="3200" spc="-1" strike="noStrike">
              <a:solidFill>
                <a:srgbClr val="85b34d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895480" y="167652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057400" y="3276720"/>
            <a:ext cx="1600200" cy="1520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362320" y="4952880"/>
            <a:ext cx="2286000" cy="1555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5334120" y="2057400"/>
            <a:ext cx="11811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ing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495680" y="3505320"/>
            <a:ext cx="111456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ly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29200" y="5105520"/>
            <a:ext cx="258120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iving for fis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Black"/>
              </a:rPr>
              <a:t>Do this…</a:t>
            </a:r>
            <a:endParaRPr b="1" lang="en-US" sz="4400" spc="-1" strike="noStrike">
              <a:solidFill>
                <a:srgbClr val="aac4a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371600" y="152280"/>
            <a:ext cx="642312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11:35:05Z</dcterms:created>
  <dc:creator>nbdoe</dc:creator>
  <dc:description/>
  <dc:language>en-US</dc:language>
  <cp:lastModifiedBy>Teacher</cp:lastModifiedBy>
  <dcterms:modified xsi:type="dcterms:W3CDTF">2008-09-25T15:33:39Z</dcterms:modified>
  <cp:revision>3</cp:revision>
  <dc:subject/>
  <dc:title>Species</dc:title>
</cp:coreProperties>
</file>